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B38-8AF1-4C97-9943-9D174A0F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7DF-0BBA-462A-A8D3-16C88E7B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E69-3B0E-4E91-A94B-33CB23B1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DDB-481E-4669-907B-DB28BDED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806-F116-46EC-9E30-2CA0168A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6C8-99B1-4269-931D-DCF0BAF5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2A2-EB94-48A4-9094-A7291ADE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4E5-AA48-4F93-B728-FFE4E8E9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BEB-A07D-4D26-A73C-C0AD23E4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5C0-9C86-443C-9130-8D294617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5E6-0E3E-41B8-9539-C1138335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661-C3D6-4D43-B65E-DED66DE4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F46F-874A-411D-A2A5-424F59E25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rcRect l="25765" t="24590" r="39106" b="12666"/>
          <a:stretch/>
        </p:blipFill>
        <p:spPr>
          <a:xfrm>
            <a:off x="1828800" y="304920"/>
            <a:ext cx="5587920" cy="6237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"/>
          <p:cNvPicPr/>
          <p:nvPr/>
        </p:nvPicPr>
        <p:blipFill>
          <a:blip r:embed="rId2"/>
          <a:srcRect l="25765" t="24590" r="39106" b="12666"/>
          <a:stretch/>
        </p:blipFill>
        <p:spPr>
          <a:xfrm>
            <a:off x="1828800" y="304920"/>
            <a:ext cx="5587920" cy="6237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3"/>
          <a:srcRect l="25765" t="24590" r="39106" b="12666"/>
          <a:stretch/>
        </p:blipFill>
        <p:spPr>
          <a:xfrm>
            <a:off x="1828800" y="304920"/>
            <a:ext cx="5587920" cy="623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"/>
          <p:cNvPicPr/>
          <p:nvPr/>
        </p:nvPicPr>
        <p:blipFill>
          <a:blip r:embed="rId4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5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/>
          <p:cNvPicPr/>
          <p:nvPr/>
        </p:nvPicPr>
        <p:blipFill>
          <a:blip r:embed="rId6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7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8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"/>
          <p:cNvPicPr/>
          <p:nvPr/>
        </p:nvPicPr>
        <p:blipFill>
          <a:blip r:embed="rId9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"/>
          <p:cNvPicPr/>
          <p:nvPr/>
        </p:nvPicPr>
        <p:blipFill>
          <a:blip r:embed="rId10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2:47:14Z</dcterms:created>
  <dc:creator>Ghost</dc:creator>
  <dc:description/>
  <dc:language>en-US</dc:language>
  <cp:lastModifiedBy>ghost</cp:lastModifiedBy>
  <dcterms:modified xsi:type="dcterms:W3CDTF">2010-04-16T06:54:26Z</dcterms:modified>
  <cp:revision>15</cp:revision>
  <dc:subject/>
  <dc:title>Slide 1</dc:title>
</cp:coreProperties>
</file>